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3FC-A86F-404F-B132-2FE81F32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DC5-96A0-4667-A321-4F8F9F05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D36-6A96-4B6A-9945-84EF9ABF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2DD-92C4-4BCD-B2A1-165F790D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8B1-CD8A-4E23-BC72-E92A82E1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DCA-48FB-47C9-8DF9-87E3CC03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208-E274-48EA-A3B4-E3A13F11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3A9-7053-488C-9615-52518BAB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B5F0-BBEB-47F2-BAB3-3176CB49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E9F-A680-49A0-9C3E-155BC2CD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FE2-F094-4032-BEDF-73C239FC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50E-494A-4A3F-8F5B-4614E410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301D8-E668-4056-897E-1CB05B7988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720720"/>
            <a:ext cx="5219640" cy="6480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59280" y="1440000"/>
            <a:ext cx="4140360" cy="57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52680" y="1079640"/>
            <a:ext cx="63658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4000" spc="-1" strike="noStrike" u="sng">
                <a:solidFill>
                  <a:srgbClr val="0000ff"/>
                </a:solidFill>
                <a:uFillTx/>
                <a:latin typeface="Arial"/>
              </a:rPr>
              <a:t>A CIGARRA E A FORM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41560" y="2340000"/>
            <a:ext cx="7499160" cy="42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 L"/>
              </a:rPr>
              <a:t>Tendo a cigarra em cantigas no inv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Passado todo o ver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Achou-se em penúria extr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Na tormentosa es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Não lhe restando migal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Que trincasse, a tagar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Foi valer-se da formig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Que morava perto d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5000" y="179280"/>
            <a:ext cx="220500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49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49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4160" y="1800360"/>
            <a:ext cx="604692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 L"/>
              </a:rPr>
              <a:t>Rogou-lhe que lhe emprestas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Pois tinha riqueza e brilh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Algum grão com que manter-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Até voltar o acesso est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60720" y="3959280"/>
            <a:ext cx="50403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49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49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60720" y="1079640"/>
            <a:ext cx="529560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- “ Amiga”, diz a cigar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- “ Prometo, à fé d'anim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Pagar-vos antes d'ag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Os juros e o principa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A formiga nunca empres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Nunca dá, por isso ju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-”No verão em que lidava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Á pedinte ela pergu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197964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78160" y="2446200"/>
            <a:ext cx="608148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 L"/>
              </a:rPr>
              <a:t>Responde a outra:- “ Eu can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Noite e dia, a toda a hor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- “ Oh! Bravo!”, torna a formi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entury Schoolbook L"/>
              </a:rPr>
              <a:t>- “ Cantavas? Pois dance agora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19280" y="360360"/>
            <a:ext cx="5580000" cy="17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49:16Z</dcterms:created>
  <dc:creator/>
  <dc:description/>
  <dc:language>en-US</dc:language>
  <cp:lastModifiedBy/>
  <cp:revision>1</cp:revision>
  <dc:subject/>
  <dc:title/>
</cp:coreProperties>
</file>